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07B6-805C-4E19-BF83-CB993357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C16-AA6D-4A1F-8BD7-A8DB4035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E4F-3B97-41E2-8C02-DFA8582E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BA0-DA9C-4468-AD24-255CBA10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8FC7-86EC-4603-AE08-2B730F2B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9AF-2F80-4331-AB08-78568A66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56F-4014-4FF9-8745-F88107FD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A90-1CE3-4033-B754-EC179F55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187-8826-4C06-B799-8949F8F8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147-EF80-4D8E-AF5A-E82DE0C8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1C5-EA6D-420E-BE5F-59DD2A3A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B42-622C-457E-AFA8-D0C54F05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0641-931D-4A74-BF38-40E19E756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501422dASCxiXjMA_ph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876920" cy="90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33"/>
                </a:solidFill>
                <a:latin typeface="Arabic Transparent"/>
                <a:cs typeface="Simplified Arabic"/>
              </a:rPr>
              <a:t>لولاك... من كانَ يحملْ همّي يا يسو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33"/>
                </a:solidFill>
                <a:latin typeface="Arabic Transparent"/>
                <a:cs typeface="Simplified Arabic"/>
              </a:rPr>
              <a:t>لولاك... كنتُ قضيتُ كلَّ عمري بالدمو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33"/>
                </a:solidFill>
                <a:latin typeface="Arabic Transparent"/>
                <a:cs typeface="Simplified Arabic"/>
              </a:rPr>
              <a:t>طريقي كانت ضَيَاع نصيبي كان الجح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33"/>
                </a:solidFill>
                <a:latin typeface="Arabic Transparent"/>
                <a:cs typeface="Simplified Arabic"/>
              </a:rPr>
              <a:t>وكم لبستُ من قناع لأُخْفِي جرحيَ الأليم</a:t>
            </a:r>
            <a:r>
              <a:rPr b="0" lang="ar-SA" sz="2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324937uKhisKVkwI_ph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572000" cy="89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ولاك... من كان يمشي دربَ الجلج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ولاك... من كان سوف يحملُ الصل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جلد كان لي... الصلب كان لي... الموت كان ل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رتضيتَ أنت تأخذَ مكاني يا يسو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كي تكون لي الحياة أتيتَ يا يسوع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7464747OSrAOXwLFa_ph" descr=""/>
          <p:cNvPicPr/>
          <p:nvPr/>
        </p:nvPicPr>
        <p:blipFill>
          <a:blip r:embed="rId1"/>
          <a:stretch/>
        </p:blipFill>
        <p:spPr>
          <a:xfrm>
            <a:off x="372420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34290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Simplified Arabic"/>
              </a:rPr>
              <a:t>أحبك... أحبك...أحبك... حبيبي يا يسو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Simplified Arabic"/>
              </a:rPr>
              <a:t>شكرا لك...مجداً لك ... لك السجودُ وحدك يا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0:01:37Z</dcterms:created>
  <dc:creator>SUZANNE.MD</dc:creator>
  <dc:description/>
  <dc:language>en-US</dc:language>
  <cp:lastModifiedBy>SUZANNE.MD</cp:lastModifiedBy>
  <dcterms:modified xsi:type="dcterms:W3CDTF">2003-03-16T10:14:02Z</dcterms:modified>
  <cp:revision>1</cp:revision>
  <dc:subject/>
  <dc:title>PowerPoint Presentation</dc:title>
</cp:coreProperties>
</file>